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C64D-2683-4FE2-8D40-AF12A386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8F3-E1DC-4762-AE68-6E01FB0E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C5A0-C298-4868-BD69-4B3B562A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6E3-0258-4080-959F-04541ABB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B77-C965-4032-B20A-AC222CEA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CA9-CCC2-4B4E-8BCB-2381F6B5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E73-8AF1-40CE-8EAE-48F1B9AB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368-B1C4-4EE4-8FD6-B6A5FFB2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430-AFC7-4AA4-8B06-50CBBECA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3E49-9A63-4868-B702-B1ABE5BB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A9BA-A6ED-40C6-B3D1-8939149A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84D-4ACA-46C1-9A52-0906C41A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BBAE-F697-443B-8F44-070F078D1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VisiCalc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– developed by Dan Bricklin and friend Bob Frankston (both M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Revolutionized the Personal PC and became the standard tool of analysts (financial and otherwi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Lotus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, developed by Mitch Kapor, integrated spreadsheet and graphics and became the standard for PC us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Excel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has adopted the best of both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Bar Charts – like line charts but more appropriate when data falls into a few categ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676520" y="3429000"/>
          <a:ext cx="6019560" cy="329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429000"/>
                    <a:ext cx="6019560" cy="32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tack Charts – like bar charts that can be stacked, they show how proportions of a whole change over time, like a series of pie ch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catter Charts – used to discover rather than display a relationship between two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Loan Amortization is one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(open file LOAN in the Retrieve folder of Ruef Clas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Statistical Software: Beyond Spreadshe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Money Managers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– Accounting and financial management software. Tracks income, expenses, assets and liabilities. Can be used to follow the audit trail. </a:t>
            </a: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Quicken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is one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Tax preparation software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– works like a prfabricated worksheet for declaring individual and corporate tax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Automatic Mathematics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– Mathematics processing software to understand complex equations and calculations. Mathematica is one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Statistics and Data Analysis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– Where spreadsheets are used to illustrate relationships, this software is used to determine or find relationsh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Scientific Visualization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– uses graphics (2 and 3 dimentional) to find patterns in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cientific Visualization Software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preadsheets – allows people to create and work with simulations of real-world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imulations, if well designed, can help people to achieve a better understanding of the world outside the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There are also limitations and ri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The Spreadsheet – allows the user the control of numbers, manipulating them in ways that would be difficult or impossible otherw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They are used for – budgeting, investment, management, business projections, grade books, scientific simulations, checkbook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666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all share the same qua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Numbered 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Lettered 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Cells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(add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all share the same cont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8120" y="1447920"/>
          <a:ext cx="5848200" cy="50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447920"/>
                    <a:ext cx="5848200" cy="50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971800" y="3581280"/>
            <a:ext cx="609480" cy="327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2743200"/>
            <a:ext cx="45720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2971800"/>
            <a:ext cx="137160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895480"/>
            <a:ext cx="53352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90920" y="297144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33720" y="3352320"/>
            <a:ext cx="1218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Spreadsheet Feature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Automatic replication of values, labels and formulas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reference and 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absolute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Automatic re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Predefined functions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Mac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Basic Database functions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searching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preadsheet Strength‚What i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Allows users to forecast or simulate using real or assum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Allows users to solve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Newer spreadsheets are also using artificial inteligence to guide users through complex tasks using validators (function check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Creating Charts from Numbers – one of the strengths of spreadsheets is the ability to create graphic representations of numeric relation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Pie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Line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Bar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tack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catter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Pie Charts – show the relative proportions of the parts to a who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19320" y="3048120"/>
          <a:ext cx="6933960" cy="367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8120"/>
                    <a:ext cx="693396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Line Charts – show trends or relationships over time or relative distribution of one variable through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05120" y="3429000"/>
          <a:ext cx="5715000" cy="32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429000"/>
                    <a:ext cx="5715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13:31:40Z</dcterms:created>
  <dc:creator>Technology Department</dc:creator>
  <dc:description/>
  <dc:language>en-US</dc:language>
  <cp:lastModifiedBy>Technology Department</cp:lastModifiedBy>
  <dcterms:modified xsi:type="dcterms:W3CDTF">2001-01-04T10:08:37Z</dcterms:modified>
  <cp:revision>8</cp:revision>
  <dc:subject/>
  <dc:title>Chapter 6: Calculation, Visualization and Simulation</dc:title>
</cp:coreProperties>
</file>